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41A-FA17-4F3D-A34D-A00DFC7C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DBF-368D-4D68-948F-DB9A2ED7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AA1-DCB7-4B6C-8BA4-60FEFE74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1F9-5C8F-495A-9894-AF3D119E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9BD7-D670-4D6C-ABBD-58363D9F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F87A-BC82-4D58-BCF4-54C5677F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DFFB-9B3B-4ED7-9308-AF1EB02D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9D50-F4B4-44CF-AF01-4455C7F4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3F16-6698-440E-9D66-B900D9DB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0F70-6EB0-4DB8-85F9-58634E5E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EB9D-FE8D-42FC-AC2A-770E9C72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53BF-E8D5-4DB7-B96E-153BF74D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4848-2AB0-446C-998C-8FB72614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8A11-9DFF-4425-88E8-366E50DB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153F-A9E2-4066-A317-25421627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3FB1-D944-4C65-B5CC-8D2CCF5F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84A9-7108-4F43-B452-7D8BBB87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46AC-66F0-413E-9296-0A407D92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F2F58-D5C7-40EC-BD39-EBCFC46D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B3B18-AD7E-4AA2-8243-8479E0A5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EFC4B-3FFA-454B-8C71-B9529950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CE5C5-FFA7-4CB1-9C66-9CDAD9E1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8A09-ADD9-4820-AD38-4155DADE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8D847-C49D-46B2-968D-CB8752F3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FAD35-939C-46EC-BDF8-0AC314EB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07072-B141-478F-BC5A-14923F5F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E3B79-7FEF-4FC6-B24D-C28EC807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51D7F-25D4-4F20-9B9D-D1E7E52D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C89CF-29BC-4FAA-95D1-8239C3BF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4AE2A-5FA1-434A-AC48-E8A66AF6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65F0B-69F0-4120-BE8D-CBDE7ACB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3F61D-AA05-49B1-AB7B-33668121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018B4-9196-4B9F-AAA7-7243FF41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D3B-468F-464E-BCC2-9A9FDD2F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1B22B-BA0D-4C4A-A93F-B3DC0638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B6EB9-AA53-4AAB-B79C-57C2232F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AB747-1EA0-4B12-84DC-39FADBCA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25318-5FF0-43A0-A07E-CEB8CB94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633EB-BA55-446D-954D-D930BF5B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DB868-4BA5-4BBC-B220-4AA555CE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4F504-AE3B-4A84-B361-5D3821BF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4998F-A969-48FE-B62B-786F6B91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986C6-57BE-4A38-AED3-0B834F77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BB213-3097-4E41-B5B8-6289F616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9AE-D0F6-4E7C-9BC3-53B7C0BD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87325-53EE-43D1-9B09-978575DA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1A14A-F0C3-44D2-A7F7-43630EC8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078D4-2291-4B25-9D97-422B7401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4E818-AE86-46D1-BD22-D7D69D89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9882E-EE62-412D-906D-DAE6C106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A2FA3-4D73-4923-ABF0-A1F7CAC9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62CC5-C0F8-4AE8-89F3-79EA3146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83D8E-E219-42D9-9532-C4C38CC4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B65FA-A5DE-4064-84D0-83712CF3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7A4EF-757C-4F75-9BBB-07880958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5B2-5241-4571-B089-B6F3B67D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931E9-CE64-451B-BA99-6E324481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52559-4951-4EE8-A3FE-D43849EF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1FD79-C9E4-4416-8405-48CCE640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53A25-6C6A-414C-9F0E-71286165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5FB72-D87C-4095-8679-692951D1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997A6-18AB-4503-B6C3-90DA5F3C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7852A-FE7E-4323-B5AD-E8E05322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E05C1-92B8-408B-B16C-98D9829D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045D2-69DA-467B-ACF9-4AB68053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BBBB1-24CB-4118-9492-75CB6D23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8C6-3298-4156-BB29-47928484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6A1A5-BB94-4359-A42E-36491EE1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3ECBC-8B61-44F4-BE64-02786DDA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E0659-A194-48A8-9167-3F0CC559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A16F7-1E41-4907-B05F-4A9FF8C2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C145C-F694-41CD-8302-00237B73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7A341-9484-4A95-B656-D1CF201A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D5DF3-70D5-4C48-9217-C1C32D62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7E16D-EFE8-4E7A-9E4F-4337F8AF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DA73E-4B0A-41A4-8FD8-3252D796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F7B41-9F0C-46A1-A52E-4068E490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FBAC-C98F-49D0-BE4D-A87D6E7D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9F88D-CC33-49E7-8731-A41F27E0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080E2-DE1F-438A-BA7C-53EA2B95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E086C-83B9-49ED-97C9-27D5D63A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56262-337A-408A-9E41-FF112B5D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A70EB-B562-456C-8ECD-4448742E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30D5F-186F-4AF6-957C-C8411C97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4CC11-54E6-439C-A8B2-FD03D3F2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66427-0198-4F58-A065-430CA6D6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6D479-94E9-4FB4-B80A-09D959BA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2A062-43CA-4E31-ADF4-05652352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0B78-CFDB-477A-96A5-A26576B7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DCAA1-802B-4EEC-983E-DE3CF532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386B8-2F76-417A-847B-440D2B84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CDB47-D8AF-412D-B48C-8703ACE0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B0D90-BDE1-4849-91C1-FFB8EFBA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900A8-6B2C-4DA9-9911-32AF6AEF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B5987-0560-4205-A67D-1D073D2D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7E9C2-FE6E-4F3F-83F4-A8055D7C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DB90-75D9-434F-BFBB-F0E537F287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AB58-5EE4-4AEF-BBB6-6CC99BB96B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0E75-8010-41B9-8A27-19E8D6E529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0F56-21D9-4126-9683-D73B1C6BDA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37E6-D478-499A-9683-895C848D28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3E41-E53A-4BD6-A5C7-EA1EE53A79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7DDC-E158-435B-838C-5C5E2BBE72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2C0F-5397-41D2-A4D7-706035CCB4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iconline.org/home" TargetMode="External"/><Relationship Id="rId2" Type="http://schemas.openxmlformats.org/officeDocument/2006/relationships/hyperlink" Target="http://www.education-world.com/" TargetMode="External"/><Relationship Id="rId3" Type="http://schemas.openxmlformats.org/officeDocument/2006/relationships/hyperlink" Target="http://www.worldofteaching.com/" TargetMode="External"/><Relationship Id="rId4" Type="http://schemas.openxmlformats.org/officeDocument/2006/relationships/hyperlink" Target="http://www.readwritethink.org/lessons/lesson_view.asp?id=983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eachersfirst.com/index.cfm" TargetMode="External"/><Relationship Id="rId2" Type="http://schemas.openxmlformats.org/officeDocument/2006/relationships/hyperlink" Target="http://4teachers.org/" TargetMode="External"/><Relationship Id="rId3" Type="http://schemas.openxmlformats.org/officeDocument/2006/relationships/hyperlink" Target="http://www.freetech4teachers.com/" TargetMode="External"/><Relationship Id="rId4" Type="http://schemas.openxmlformats.org/officeDocument/2006/relationships/hyperlink" Target="http://www.internet4classrooms.com/" TargetMode="External"/><Relationship Id="rId5" Type="http://schemas.openxmlformats.org/officeDocument/2006/relationships/hyperlink" Target="http://www.topmarks.co.uk/" TargetMode="External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-learningforkids.org/index.html" TargetMode="External"/><Relationship Id="rId2" Type="http://schemas.openxmlformats.org/officeDocument/2006/relationships/hyperlink" Target="http://teacher.scholastic.com/activities/clf/tguidesitemap.htm" TargetMode="External"/><Relationship Id="rId3" Type="http://schemas.openxmlformats.org/officeDocument/2006/relationships/hyperlink" Target="http://www.freerice.com/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almathlearning.com/" TargetMode="External"/><Relationship Id="rId2" Type="http://schemas.openxmlformats.org/officeDocument/2006/relationships/hyperlink" Target="http://resources.oswego.org/games/" TargetMode="External"/><Relationship Id="rId3" Type="http://schemas.openxmlformats.org/officeDocument/2006/relationships/hyperlink" Target="http://www.apples4theteacher.com/math.html" TargetMode="External"/><Relationship Id="rId4" Type="http://schemas.openxmlformats.org/officeDocument/2006/relationships/hyperlink" Target="http://mathtv.com/" TargetMode="External"/><Relationship Id="rId5" Type="http://schemas.openxmlformats.org/officeDocument/2006/relationships/hyperlink" Target="http://www.mathatube.com/" TargetMode="External"/><Relationship Id="rId6" Type="http://schemas.openxmlformats.org/officeDocument/2006/relationships/hyperlink" Target="http://www.mathwire.com/" TargetMode="External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76280" y="371520"/>
            <a:ext cx="8612280" cy="24573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62120" y="35049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akeview Academy Summer Institu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Cable in the Classro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Education Wor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Worldofteach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Readwritethin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Teachersfir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4teach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Freetech4teach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Internet4classroo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Topmark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designed for busy teachers in  need of a quick way to find classroom activities (see interactive whiteboard activiti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6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e-learningfork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sclassro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rtyga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Scholast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Freer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4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Visual Math Lear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Osweg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All Leve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apples4theteac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Mathtv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Middle Scho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Mathatub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tutori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Mathwi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resource for teach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7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e LeBea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rtboard Activit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tting Schools Connec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anetfes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indersi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arntobehealth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7:09:32Z</dcterms:created>
  <dc:creator>Fac - Montgomery,Bruce</dc:creator>
  <dc:description/>
  <dc:language>en-US</dc:language>
  <cp:lastModifiedBy>Fac - Montgomery,Bruce</cp:lastModifiedBy>
  <dcterms:modified xsi:type="dcterms:W3CDTF">2009-07-26T15:59:02Z</dcterms:modified>
  <cp:revision>73</cp:revision>
  <dc:subject/>
  <dc:title>Free Online Resources for the Lower School Classroom</dc:title>
</cp:coreProperties>
</file>